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E7B-F47F-4846-B65B-CDB3AA3A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517-9B48-436F-A2C6-98C41F2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8E9-FC7D-4C6C-BD20-5F28087B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EEC-ADAA-49DD-B015-B20DF2A4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84C-CB27-4883-8725-E842B3B9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EAE2-8661-4E12-A3EB-BC637CC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1017-D116-4870-9BA0-0D405BA4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AB4D-2538-492B-AE0B-FB49E8A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3C4-3B09-4294-ADC3-1C721DD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2E2-E1F5-47D0-B59E-FCB6C6D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8F56-EAAC-4EC9-B94B-02BA2DE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113-EA54-46AE-ADE4-330A1A72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A0D-7F89-482E-8EE0-7B9F0569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D89C-C36A-4D08-AC25-E2ED8F9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202F-0CE5-45E0-80BF-13A5198F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D612-A868-444F-87BC-B6933F8E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D67-FAF5-4383-8923-626480F3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15B-BCEE-48DE-A5F4-7CC6DC65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5D5-ECD4-4255-85F6-B5404D2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9DE-FACF-4F54-9A29-62E1932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D08-976A-4016-A136-54585A2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3A5-D42C-4C9C-BC4B-15F875C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62D-9B6F-43B0-B36E-08B305A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2F1-2F67-40C9-98E9-82390CF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C50-A48E-4BE4-8DAD-11550DC8D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525-0C0E-4AB2-98F1-88C42C1DA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66"/>
                </a:solidFill>
                <a:latin typeface="Chiller"/>
              </a:rPr>
              <a:t>What’s happening today . . .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Entrance task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Think:  Would I be ready for a quiz toda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Today’s topic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: Absolutism in Russia –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Peter the Great pictogra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Homework </a:t>
            </a:r>
            <a:r>
              <a:rPr b="1" lang="en-US" sz="3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Thematic essay due Fri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hiller"/>
              </a:rPr>
              <a:t>Homework for the weekend:</a:t>
            </a:r>
            <a:r>
              <a:rPr b="1" lang="en-US" sz="3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Ch. 18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 flipV="1">
            <a:off x="762120" y="609480"/>
            <a:ext cx="7391160" cy="548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>
            <a:off x="762120" y="762120"/>
            <a:ext cx="327636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82440" y="434340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Peter the G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1672-17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r. 1696-17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32040" y="304920"/>
            <a:ext cx="73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pperplate Gothic Light"/>
              </a:rPr>
              <a:t>Events of his reign &amp; examples of absolu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8120" y="7621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ed nobles to shave beards and give up backward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forced labor to build St. Petersbu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the church under his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t a strong nav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2280" y="13716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pperplate Gothic Light"/>
              </a:rPr>
              <a:t>Condition of Rus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pperplate Gothic Light"/>
              </a:rPr>
              <a:t>when he became r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70102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pperplate Gothic Light"/>
              </a:rPr>
              <a:t>Re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927760" y="2286000"/>
            <a:ext cx="3216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rnized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ed western technology and cus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red engineers, ship builders, teachers to westernize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ified Russian alphab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d a “window to the west” on the Baltic and a warm water port at St. Petersbur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ed the potato to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ised the status of wo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3017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9" descr="http://www.lib.utexas.edu/photodraw/portraits/pgreat.jpg"/>
          <p:cNvPicPr/>
          <p:nvPr/>
        </p:nvPicPr>
        <p:blipFill>
          <a:blip r:embed="rId1"/>
          <a:stretch/>
        </p:blipFill>
        <p:spPr>
          <a:xfrm>
            <a:off x="3979800" y="2590920"/>
            <a:ext cx="118260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0"/>
          <p:cNvSpPr/>
          <p:nvPr/>
        </p:nvSpPr>
        <p:spPr>
          <a:xfrm>
            <a:off x="228600" y="2743200"/>
            <a:ext cx="304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ssia was a land of ser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lated from western Europe by Mongol rule, geography, and reli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ackward country with no Renaiss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ically behind the w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Chiller"/>
              </a:rPr>
              <a:t>Homework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Thematic essay due Friday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The Scientific Revolu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h. 18-1 due ?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2:12:10Z</dcterms:created>
  <dc:creator>Susan Vanderpool</dc:creator>
  <dc:description/>
  <dc:language>en-US</dc:language>
  <cp:lastModifiedBy>tech</cp:lastModifiedBy>
  <dcterms:modified xsi:type="dcterms:W3CDTF">2011-11-15T14:12:52Z</dcterms:modified>
  <cp:revision>17</cp:revision>
  <dc:subject/>
  <dc:title>PowerPoint Presentation</dc:title>
</cp:coreProperties>
</file>